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2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1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1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1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1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1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1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1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1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1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1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1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1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1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1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1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1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1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1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1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1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1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1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1"/>
          <p:cNvSpPr/>
          <p:nvPr/>
        </p:nvSpPr>
        <p:spPr>
          <a:xfrm>
            <a:off x="1440" y="0"/>
            <a:ext cx="1800" cy="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1440" y="0"/>
            <a:ext cx="1800" cy="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1"/>
          <p:cNvSpPr/>
          <p:nvPr/>
        </p:nvSpPr>
        <p:spPr>
          <a:xfrm>
            <a:off x="1440" y="0"/>
            <a:ext cx="1800" cy="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1"/>
          <p:cNvSpPr/>
          <p:nvPr/>
        </p:nvSpPr>
        <p:spPr>
          <a:xfrm>
            <a:off x="1440" y="0"/>
            <a:ext cx="1800" cy="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1"/>
          <p:cNvSpPr/>
          <p:nvPr/>
        </p:nvSpPr>
        <p:spPr>
          <a:xfrm>
            <a:off x="1440" y="0"/>
            <a:ext cx="1800" cy="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D9308-F130-4F25-96CB-4061E249D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B165A-8C7B-4B3B-8391-D66E33F73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81F7F-E5ED-4110-A886-2D779F999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1AC87-0E7D-4453-9732-24152E464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53740-CF67-46F4-851C-3901758B7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73333-FC93-45E0-BF8E-143D3A831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FC69F-030C-4FAF-8C5D-B4178DEEE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1A529-B03F-4656-9C62-D19EA062D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2636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CAEDB-8B9B-4938-8AB4-3934C9450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7A43B-C8A7-4983-8387-257D73F57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ADFB6-CED8-4A64-BB02-A524539F7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2574F-2680-4D47-BFE3-44754CAA4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26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50317D-709E-4E65-8602-F98557ED79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1"/>
          <p:cNvSpPr/>
          <p:nvPr/>
        </p:nvSpPr>
        <p:spPr>
          <a:xfrm>
            <a:off x="2343960" y="1797120"/>
            <a:ext cx="4246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Times New Roman"/>
              </a:rPr>
              <a:t>социальная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6000" spc="-1" strike="noStrike">
                <a:solidFill>
                  <a:srgbClr val="000000"/>
                </a:solidFill>
                <a:latin typeface="Times New Roman"/>
              </a:rPr>
              <a:t>педагогика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1"/>
          <p:cNvSpPr/>
          <p:nvPr/>
        </p:nvSpPr>
        <p:spPr>
          <a:xfrm>
            <a:off x="324000" y="1628640"/>
            <a:ext cx="8227800" cy="45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39840" indent="-339840"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Arial"/>
              </a:rPr>
              <a:t>периоды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развити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социальной педагогик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51120"/>
            <a:ext cx="8228160" cy="17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1-й (начальный)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период с древнейших времен до ХVII в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Осмысление практики воспитания и формирование педагогической и социально-педагогической мысли. Становление воспитания как социального явления, его преобразование из стихийного действия в осознанную деятельность. Возникновение различных теорий воспита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2-й период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(ХVII- XIXвв.)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Развитие ведущих идей и научных концепций социальной педагогики, становление ее как науки. ХVIII, XIX века вошли в историю мировой культуры как периоды буржуазно-демократических войн. Видные ученые (педагоги, философы, социологи, психологи) искали решение социально-педагогических проблем на путях сотрудничества с общественностью и государство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3-й период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с начала ХХ век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Период развития социальной педагогики как самостоятельной науки. В России социальная педагогика, зародилась в конце ХIХ. В 1991 г. в России был официально введен институт социальной педагогики. Повсеместно в стране создаются центры социального здоровья семьи и детей, социальной реабилитации трудных подростков, работают телефоны доверия и многие другие служб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1"/>
          <p:cNvSpPr/>
          <p:nvPr/>
        </p:nvSpPr>
        <p:spPr>
          <a:xfrm>
            <a:off x="395280" y="453960"/>
            <a:ext cx="8424720" cy="50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1" i="1" lang="en-GB" sz="3600" spc="-1" strike="noStrike">
                <a:solidFill>
                  <a:srgbClr val="ffffff"/>
                </a:solidFill>
                <a:latin typeface="Arial"/>
              </a:rPr>
              <a:t>оциализацию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можно рассматривать как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развитие и самоизменение челове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в процессе усвоения и воспроизводства культуры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что происходит во взаимодействии человека со стихийными, относительно направляемыми и целенаправленно создаваемыми условиями жизни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на всех возрастных этапах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1"/>
          <p:cNvSpPr/>
          <p:nvPr/>
        </p:nvSpPr>
        <p:spPr>
          <a:xfrm>
            <a:off x="468360" y="1557360"/>
            <a:ext cx="8424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3600" spc="-1" strike="noStrike">
                <a:solidFill>
                  <a:srgbClr val="ffffff"/>
                </a:solidFill>
                <a:latin typeface="Arial"/>
              </a:rPr>
              <a:t>Сущность социализации</a:t>
            </a: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состоит в сочетании приспособления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и обособления человек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в условиях конкретного общества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1"/>
          <p:cNvSpPr/>
          <p:nvPr/>
        </p:nvSpPr>
        <p:spPr>
          <a:xfrm>
            <a:off x="10800" y="484200"/>
            <a:ext cx="8701560" cy="42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3200" spc="-1" strike="noStrike">
                <a:solidFill>
                  <a:srgbClr val="ffffff"/>
                </a:solidFill>
                <a:latin typeface="Arial"/>
              </a:rPr>
              <a:t>Приспособление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(социальная адаптация) –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процесс и результат встречной активност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субъекта и социальной сред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Адаптация предполагает согласовани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требований и ожиданий социальной среды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по отношению к человеку с его уста­новкам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и социальным поведением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согласование самооценок и притязаний челове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с его возможностями и с реалиями социальной сред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Таким образом, адаптация - это процесс и результат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становления индивида социальным существо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1"/>
          <p:cNvSpPr/>
          <p:nvPr/>
        </p:nvSpPr>
        <p:spPr>
          <a:xfrm>
            <a:off x="395280" y="1020240"/>
            <a:ext cx="7991640" cy="41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Обособление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- процесс автономизации человек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в обществе. Результат этого процесса - потребность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человека иметь собственные взгляды и наличие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таковых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(ценностная автономия),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потребность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иметь собственные привязанност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(эмоциональная автономия)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потребность самостоятельно решать лично его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касающиеся вопросы, способность противостоять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тем жизненным ситуациям, которые мешают ег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самоизменению, самоопределению, самореализации, самоутверждению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(поведенческая автономия)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Таким образом,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обособление - это процесс и результат становления человеческой индивиду­альност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Прямоугольник 1"/>
          <p:cNvSpPr/>
          <p:nvPr/>
        </p:nvSpPr>
        <p:spPr>
          <a:xfrm>
            <a:off x="971640" y="1484280"/>
            <a:ext cx="7129440" cy="19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современном обществе социализация имеет особенности в зависимости от среды, культуры, но есть и общие характеристик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Прямоугольник 1"/>
          <p:cNvSpPr/>
          <p:nvPr/>
        </p:nvSpPr>
        <p:spPr>
          <a:xfrm>
            <a:off x="1116000" y="1197000"/>
            <a:ext cx="7416720" cy="281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любом обществе социализация человека имеет особенности на различных этапах. В самом общем виде этапы социализации можно соотнести с возрастной периодизацией жизни человека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Прямоугольник 1"/>
          <p:cNvSpPr/>
          <p:nvPr/>
        </p:nvSpPr>
        <p:spPr>
          <a:xfrm>
            <a:off x="826920" y="981000"/>
            <a:ext cx="7705800" cy="343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ермин «социальная педагогика» активно употребляется с начала ХХ в.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есмотря на то, что само название было предложено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емецким педагогом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Фридрихом Дистервегом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середине ХIХ 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Прямоугольник 1"/>
          <p:cNvSpPr/>
          <p:nvPr/>
        </p:nvSpPr>
        <p:spPr>
          <a:xfrm>
            <a:off x="1403280" y="1125360"/>
            <a:ext cx="5689800" cy="326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уществуют различные периодизации, и приводимая ниже не является общепризнанной. Она весьма условна (особенно после этапа юности), но достаточно удобна с социально-педагогической точки зре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1"/>
          <p:cNvSpPr/>
          <p:nvPr/>
        </p:nvSpPr>
        <p:spPr>
          <a:xfrm>
            <a:off x="1332000" y="1700280"/>
            <a:ext cx="691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4000" spc="-1" strike="noStrike">
                <a:solidFill>
                  <a:srgbClr val="ffffff"/>
                </a:solidFill>
                <a:latin typeface="Arial"/>
              </a:rPr>
              <a:t>Этапы социализации</a:t>
            </a: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1"/>
          <p:cNvSpPr/>
          <p:nvPr/>
        </p:nvSpPr>
        <p:spPr>
          <a:xfrm>
            <a:off x="1403280" y="260280"/>
            <a:ext cx="849636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младенчество (от рождения до 1 года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раннее детство (1-3 года)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дошкольное детство (3-6 лет);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младший школьный возраст (6-10 лет);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младший подростковый (10-12 лет)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старший подростковый (12-14 лет)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ранний юношеский возраст(15-17 лет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юношеский (18-23 года)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молодость (23-30 лет)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ранняя зрелость (30-40 лет)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поздняя зрелость (40-55 лет)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пожилой возраст (55-65 лет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старость (65-70 лет)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долгожительство (свыше 70 лет)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Прямоугольник 1"/>
          <p:cNvSpPr/>
          <p:nvPr/>
        </p:nvSpPr>
        <p:spPr>
          <a:xfrm>
            <a:off x="1332000" y="1052640"/>
            <a:ext cx="5688000" cy="168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и социализации детей, подростков действуют условия, которые принято называть факторам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1"/>
          <p:cNvSpPr/>
          <p:nvPr/>
        </p:nvSpPr>
        <p:spPr>
          <a:xfrm>
            <a:off x="1206360" y="2182320"/>
            <a:ext cx="687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Факторы социализации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1"/>
          <p:cNvSpPr/>
          <p:nvPr/>
        </p:nvSpPr>
        <p:spPr>
          <a:xfrm>
            <a:off x="1116000" y="1484280"/>
            <a:ext cx="78501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800" spc="-1" strike="noStrike">
                <a:solidFill>
                  <a:srgbClr val="ffffff"/>
                </a:solidFill>
                <a:latin typeface="Arial"/>
              </a:rPr>
              <a:t>мегафакторы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(мега - очень большой, всеобщий) – космос, планета, мир, которые в той или иной мер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через другие группы факторов влияю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на социализацию всех жителей Земл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1"/>
          <p:cNvSpPr/>
          <p:nvPr/>
        </p:nvSpPr>
        <p:spPr>
          <a:xfrm>
            <a:off x="1027080" y="1410120"/>
            <a:ext cx="7486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макрофакторы 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(макро - большой) - страна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этнос, общество, государство, которые влияю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на социализацию всех живущих в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определенных странах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(это влияние опосредствованно двумя другим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группами факторов).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1"/>
          <p:cNvSpPr/>
          <p:nvPr/>
        </p:nvSpPr>
        <p:spPr>
          <a:xfrm>
            <a:off x="826920" y="1591920"/>
            <a:ext cx="7560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мезофакторы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(мезо - средний, промежуточный)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условия социализации больших групп людей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выделяемых: по местности и типу поселения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в которых они живут (регион, село, город, поселок); по принадлежности к аудитори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тех или иных сетей массовой коммуникации (радио, телевидения и др.); по принадлежности к тем или иным субкультурам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1"/>
          <p:cNvSpPr/>
          <p:nvPr/>
        </p:nvSpPr>
        <p:spPr>
          <a:xfrm>
            <a:off x="539640" y="1193760"/>
            <a:ext cx="8128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Микрофакторы это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факторы, непосредственн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влияющие на конкретных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людей, которые с ними взаимодействую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(семья и домашний очаг,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соседство, группы сверстников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воспитательные организации, раз-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личные общественные, государственные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религиозные, частные организации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микросоциум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Прямоугольник 1"/>
          <p:cNvSpPr/>
          <p:nvPr/>
        </p:nvSpPr>
        <p:spPr>
          <a:xfrm>
            <a:off x="1332000" y="1341360"/>
            <a:ext cx="6624720" cy="20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ажнейшую роль в том, каким вырастет человек, как пройдет его становление, играют люди, в непосредственном взаимодействии с которыми протекает его жизнь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"/>
          <p:cNvSpPr/>
          <p:nvPr/>
        </p:nvSpPr>
        <p:spPr>
          <a:xfrm>
            <a:off x="1311120" y="550800"/>
            <a:ext cx="6642360" cy="47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социальная педагогика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отрасль педагогики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исследующая социальное воспитани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в контексте социализации,</a:t>
            </a: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т.е. воспитание всех возрастных групп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и социальных категорий людей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осуществляемое как в организациях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специально для этого созданных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так и в организациях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для которых воспитани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не является основной функцие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(предприятия, воинские части и др.)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Прямоугольник 1"/>
          <p:cNvSpPr/>
          <p:nvPr/>
        </p:nvSpPr>
        <p:spPr>
          <a:xfrm>
            <a:off x="1332000" y="1125360"/>
            <a:ext cx="6335640" cy="247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х называют агентами социализации. Пока индивид в подростковом возрасте, агентами выступают родители, братья и сестры, родственники, сверстники, соседи, учител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1"/>
          <p:cNvSpPr/>
          <p:nvPr/>
        </p:nvSpPr>
        <p:spPr>
          <a:xfrm>
            <a:off x="1251000" y="2033640"/>
            <a:ext cx="6395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Средства социализации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Прямоугольник 1"/>
          <p:cNvSpPr/>
          <p:nvPr/>
        </p:nvSpPr>
        <p:spPr>
          <a:xfrm>
            <a:off x="1332000" y="620640"/>
            <a:ext cx="6335640" cy="326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оциализация человека осуществляется широким набором универсальных средств, содержание которых специфично для того или иного общества, того или иного социального слоя, того или иного возраста социализируемого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"/>
          <p:cNvSpPr/>
          <p:nvPr/>
        </p:nvSpPr>
        <p:spPr>
          <a:xfrm>
            <a:off x="460440" y="719280"/>
            <a:ext cx="81054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Способы вскармливания младенц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и ухода за ним; формируемые бытовы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и гигиенические умения; окружающи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человека продукты материальной культуры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элементы духовной культуры (от колыбельны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песен и сказок до скульптур); стиль и содержани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общения, а также методы поощрения и наказани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в семье, в группах сверстников, в воспитательны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и иных социализирующих организациях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последовательное приобщени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человека к многочисленным видам и типам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отношений в основных сферах его жизнедеятельност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1"/>
          <p:cNvSpPr/>
          <p:nvPr/>
        </p:nvSpPr>
        <p:spPr>
          <a:xfrm>
            <a:off x="1049040" y="2060640"/>
            <a:ext cx="6939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Механизмы социализации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Прямоугольник 1"/>
          <p:cNvSpPr/>
          <p:nvPr/>
        </p:nvSpPr>
        <p:spPr>
          <a:xfrm>
            <a:off x="1042920" y="1052640"/>
            <a:ext cx="6553440" cy="20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оциализация человека во взаимодействии с различными факторами и агентами происходит с помощью ряда, условно говоря, «механизмов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Прямоугольник 1"/>
          <p:cNvSpPr/>
          <p:nvPr/>
        </p:nvSpPr>
        <p:spPr>
          <a:xfrm>
            <a:off x="1692360" y="1268280"/>
            <a:ext cx="5111640" cy="19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уществуют различные подходы к рассмотрению «механизмов» социализации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Прямоугольник 1"/>
          <p:cNvSpPr/>
          <p:nvPr/>
        </p:nvSpPr>
        <p:spPr>
          <a:xfrm>
            <a:off x="1116000" y="1700280"/>
            <a:ext cx="6408720" cy="145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ак, французский социальный психолог Г. Тард считал основным подражани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оугольник 1"/>
          <p:cNvSpPr/>
          <p:nvPr/>
        </p:nvSpPr>
        <p:spPr>
          <a:xfrm>
            <a:off x="1116000" y="620640"/>
            <a:ext cx="6840720" cy="326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мериканский ученый У. Бракфепбрепер механизмом социализации считает прогрессивную взаимную аккомодацию (приспособляемость) между активным растущим человеческим существом и изменяющимися условиями, в которых оно живе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1"/>
          <p:cNvSpPr/>
          <p:nvPr/>
        </p:nvSpPr>
        <p:spPr>
          <a:xfrm>
            <a:off x="1087560" y="905040"/>
            <a:ext cx="7258320" cy="30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Импринтинг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(запечатление) - фиксировани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человеком на рецепторном и подсознательном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уровнях особенностей воздействующих на нег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жизненно важных объектов. Импринтинг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происходит преимущественно в младенческом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возрасте. Однако и на более поздних возрастны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этапах возможно запечатление каких-либ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образов, ощущений и т. п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1"/>
          <p:cNvSpPr/>
          <p:nvPr/>
        </p:nvSpPr>
        <p:spPr>
          <a:xfrm>
            <a:off x="813240" y="1255680"/>
            <a:ext cx="723348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1280" indent="-341280" algn="ctr">
              <a:lnSpc>
                <a:spcPct val="93000"/>
              </a:lnSpc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ctr">
              <a:lnSpc>
                <a:spcPct val="93000"/>
              </a:lnSpc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 u="sng">
                <a:solidFill>
                  <a:srgbClr val="ffffff"/>
                </a:solidFill>
                <a:uFillTx/>
                <a:latin typeface="Arial"/>
              </a:rPr>
              <a:t>О</a:t>
            </a:r>
            <a:r>
              <a:rPr b="1" i="1" lang="en-GB" sz="4000" spc="-1" strike="noStrike" u="sng">
                <a:solidFill>
                  <a:srgbClr val="ffffff"/>
                </a:solidFill>
                <a:uFillTx/>
                <a:latin typeface="Arial"/>
              </a:rPr>
              <a:t>бъектом</a:t>
            </a:r>
            <a:r>
              <a:rPr b="1" i="1" lang="en-GB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ctr">
              <a:lnSpc>
                <a:spcPct val="93000"/>
              </a:lnSpc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изучения социальной педагогики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ctr">
              <a:lnSpc>
                <a:spcPct val="93000"/>
              </a:lnSpc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является </a:t>
            </a:r>
            <a:r>
              <a:rPr b="0" i="1" lang="en-GB" sz="3200" spc="-1" strike="noStrike">
                <a:solidFill>
                  <a:srgbClr val="ffffff"/>
                </a:solidFill>
                <a:latin typeface="Arial"/>
              </a:rPr>
              <a:t>ребено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ctr">
              <a:lnSpc>
                <a:spcPct val="93000"/>
              </a:lnSpc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ctr">
              <a:lnSpc>
                <a:spcPct val="93000"/>
              </a:lnSpc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1"/>
          <p:cNvSpPr/>
          <p:nvPr/>
        </p:nvSpPr>
        <p:spPr>
          <a:xfrm>
            <a:off x="900000" y="1863360"/>
            <a:ext cx="7359840" cy="145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Экзистенциальный нажим 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овладение языком и неосознаваемое усвоение норм социального поведения, обязательных в процессе взаимодействия со значимыми лицам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1"/>
          <p:cNvSpPr/>
          <p:nvPr/>
        </p:nvSpPr>
        <p:spPr>
          <a:xfrm>
            <a:off x="1478160" y="1594080"/>
            <a:ext cx="6319440" cy="17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Подражание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 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следование какому-либо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примеру, образцу. В данном случае – оди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из путей произвольного и чаще всего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непроизвольного усвоения человеко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социального опыт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"/>
          <p:cNvSpPr/>
          <p:nvPr/>
        </p:nvSpPr>
        <p:spPr>
          <a:xfrm>
            <a:off x="900000" y="1752480"/>
            <a:ext cx="73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Идентификация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(отождествление) –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процесс неосознаваемого отождествления человеком себя с другим человеком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группой, образцо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1"/>
          <p:cNvSpPr/>
          <p:nvPr/>
        </p:nvSpPr>
        <p:spPr>
          <a:xfrm>
            <a:off x="826920" y="1338480"/>
            <a:ext cx="73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Рефлексия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внутренний диалог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в котором человек рассматривает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оценивает, принимает или отвергает те или иные ценности, свойственные различным институтам общества, семье, обществу сверстников, значимым лицам и т.д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971640" y="1410120"/>
            <a:ext cx="7416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Традиционный механизм социализации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(стихийный) представляет собой усвоение человеком норм, эталонов поведения, взглядов, стереотипов, которые характерны для его семьи и ближайшего окружения (соседского, приятельского и др.)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1"/>
          <p:cNvSpPr/>
          <p:nvPr/>
        </p:nvSpPr>
        <p:spPr>
          <a:xfrm>
            <a:off x="1547640" y="476280"/>
            <a:ext cx="5672160" cy="20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 fontScale="64000"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Институциональный механизм социализации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функционирует в процессе взаимодействия человека с институтами общества и различными организациями, как специально созданными для его социализации, так и еализующими социализирующие функции попутно, параллельно со своими основными функциями (производственные, общественные, клуб­ные и другие структуры, а также средства массовой коммуникации).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1"/>
          <p:cNvSpPr/>
          <p:nvPr/>
        </p:nvSpPr>
        <p:spPr>
          <a:xfrm>
            <a:off x="539640" y="1052640"/>
            <a:ext cx="8228160" cy="14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социальное воспитание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Прямоугольник 1"/>
          <p:cNvSpPr/>
          <p:nvPr/>
        </p:nvSpPr>
        <p:spPr>
          <a:xfrm>
            <a:off x="1403280" y="1484280"/>
            <a:ext cx="54723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ля определения понятия «воспитание» многие исследователи выделяют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Прямоугольник 1"/>
          <p:cNvSpPr/>
          <p:nvPr/>
        </p:nvSpPr>
        <p:spPr>
          <a:xfrm>
            <a:off x="1332000" y="1125360"/>
            <a:ext cx="5904000" cy="20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) воспитание в широком социальном смысле, т. е. формирование человека под влиянием общества. Воспитание отождествляют с социализацией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рямоугольник 1"/>
          <p:cNvSpPr/>
          <p:nvPr/>
        </p:nvSpPr>
        <p:spPr>
          <a:xfrm>
            <a:off x="1258920" y="981000"/>
            <a:ext cx="6553080" cy="168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) воспитание в широком смысле, имея в виду целенаправленное воспитание, осуществляемое в учебно-воспитательных учреждениях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Прямоугольник 1"/>
          <p:cNvSpPr/>
          <p:nvPr/>
        </p:nvSpPr>
        <p:spPr>
          <a:xfrm>
            <a:off x="1042920" y="1413000"/>
            <a:ext cx="7129440" cy="20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4000" spc="-1" strike="noStrike" u="sng">
                <a:solidFill>
                  <a:srgbClr val="ffffff"/>
                </a:solidFill>
                <a:uFillTx/>
                <a:latin typeface="Arial"/>
              </a:rPr>
              <a:t>Предметом</a:t>
            </a:r>
            <a:r>
              <a:rPr b="0" lang="ru-RU" sz="40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ее исследования становятся закономерности социализации ребен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Прямоугольник 1"/>
          <p:cNvSpPr/>
          <p:nvPr/>
        </p:nvSpPr>
        <p:spPr>
          <a:xfrm>
            <a:off x="1258920" y="1052640"/>
            <a:ext cx="6337440" cy="247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3) воспитание в узком педагогическом смысле, а именно воспитательная работа, целью которой является формирование у детей системы определенных качеств, взглядов, убеждений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1"/>
          <p:cNvSpPr/>
          <p:nvPr/>
        </p:nvSpPr>
        <p:spPr>
          <a:xfrm>
            <a:off x="2195640" y="1052640"/>
            <a:ext cx="50036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 fontScale="34000"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социальное воспитание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означает процесс, помогающий человеку совершенствовать себя, достигать успеха в определенной жизненной ситуации, ориентироваться в общественных отношениях.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Прямоугольник 1"/>
          <p:cNvSpPr/>
          <p:nvPr/>
        </p:nvSpPr>
        <p:spPr>
          <a:xfrm>
            <a:off x="1692360" y="1484280"/>
            <a:ext cx="6048360" cy="20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4) воспитание в еще более узком значении – решение конкретных воспитательных задач (например, воспитание определенного нравственного качества и т. д.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1"/>
          <p:cNvSpPr/>
          <p:nvPr/>
        </p:nvSpPr>
        <p:spPr>
          <a:xfrm>
            <a:off x="1706400" y="1676520"/>
            <a:ext cx="5853240" cy="246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Процесс социального воспитания происходит в семье, в школе, во всех звеньях образования, в труде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1"/>
          <p:cNvSpPr/>
          <p:nvPr/>
        </p:nvSpPr>
        <p:spPr>
          <a:xfrm>
            <a:off x="2340000" y="1557360"/>
            <a:ext cx="4302000" cy="88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 fontScale="65000"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3200" spc="-1" strike="noStrike">
                <a:solidFill>
                  <a:srgbClr val="ffffff"/>
                </a:solidFill>
                <a:latin typeface="Arial"/>
              </a:rPr>
              <a:t>Основными очагами</a:t>
            </a: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 социального воспитания ребенка (подростка) являются семья, школа, среда, «улица».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1"/>
          <p:cNvSpPr/>
          <p:nvPr/>
        </p:nvSpPr>
        <p:spPr>
          <a:xfrm>
            <a:off x="1258920" y="1197000"/>
            <a:ext cx="662616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 fontScale="84000"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Распространенной формой социального воспитания взрослых являются семейные клубы. Чаще их организовывают энтузиасты, увлеченные одним делом, спортом, искусством, идеей закаливания и т. д.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"/>
          <p:cNvSpPr/>
          <p:nvPr/>
        </p:nvSpPr>
        <p:spPr>
          <a:xfrm>
            <a:off x="2411280" y="1916280"/>
            <a:ext cx="5256360" cy="145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оциальная педагогика – отрасль знания, которая дает ответы на вопросы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Прямоугольник 1"/>
          <p:cNvSpPr/>
          <p:nvPr/>
        </p:nvSpPr>
        <p:spPr>
          <a:xfrm>
            <a:off x="971640" y="1341360"/>
            <a:ext cx="7056360" cy="19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) что произойдет или может произойти в жизни людей разных возрастов в тех или иных обстоятельствах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Прямоугольник 2"/>
          <p:cNvSpPr/>
          <p:nvPr/>
        </p:nvSpPr>
        <p:spPr>
          <a:xfrm>
            <a:off x="1042920" y="1557360"/>
            <a:ext cx="7274160" cy="145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) как можно создать благоприятные условия для успешной социализации человека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Прямоугольник 1"/>
          <p:cNvSpPr/>
          <p:nvPr/>
        </p:nvSpPr>
        <p:spPr>
          <a:xfrm>
            <a:off x="1042920" y="1197000"/>
            <a:ext cx="7058160" cy="23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3) как можно уменьшить эффект влияния неблагоприятных обстоятельств, которые случаются с человеком в процессе социализаци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erver</dc:creator>
  <dc:description/>
  <dc:language>en-US</dc:language>
  <cp:lastModifiedBy>Pavel</cp:lastModifiedBy>
  <dcterms:modified xsi:type="dcterms:W3CDTF">2017-10-05T11:18:35Z</dcterms:modified>
  <cp:revision>7</cp:revision>
  <dc:subject/>
  <dc:title>Слайд 1</dc:title>
</cp:coreProperties>
</file>