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5F8-26E2-4F4F-92D2-F5D7552C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B8D-F362-4AE0-8622-17119FD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869-3E58-41B4-BC79-5D79DB6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FD9-9432-492E-8A57-6A53272A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CE0-F24D-4A22-84BA-5EA1B37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D68-C8F9-4423-B9BE-94F2466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413-8E0A-463B-929F-1663972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82D-7658-4A55-A942-9C01A52E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C36-9026-4D4A-ACEB-33B2EAF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3CD-03FF-4A89-891D-5DD1CBE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422-9575-4F7D-9BA8-7572BC4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B02-932E-4B2C-939E-1FDFD4E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CE1-7ABF-441D-A3EE-9DCD1E66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1600200"/>
            <a:ext cx="69339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ка и технолог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2895480"/>
            <a:ext cx="72388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ы социального педагог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28600"/>
            <a:ext cx="44197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ОБ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219320"/>
            <a:ext cx="312444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иагностико-прогнос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п диагностики объек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я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, построения прогн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оятного разви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я, измен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048120"/>
            <a:ext cx="2895840" cy="21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Этап выбора (разработк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тимальн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це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технологий СП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лиентом; индивидуализац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щейся технологи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ом ситуации,раз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й,индивиду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572000"/>
            <a:ext cx="266724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Этап непосред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реализации выбр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и, выя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ических асп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1219320"/>
            <a:ext cx="27432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Экспертно-оцен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ка результ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048120"/>
            <a:ext cx="304812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Реализа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ап непосред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352680" y="1066680"/>
            <a:ext cx="15242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23720" y="1066680"/>
            <a:ext cx="175284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1640" y="1066680"/>
            <a:ext cx="304920" cy="342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066680"/>
            <a:ext cx="99036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1066680"/>
            <a:ext cx="12952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ЧАС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ФУНКЦИОНАЛЬНЫХ) СОЦИА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152280"/>
            <a:ext cx="579132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ДИАГНОСТИКО-ПРОГНОС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иагностика предусматривает выяв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ндивидуальных отклонений в развитии и самореализации человека и возникших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язи с ними социальны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стояния здоров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ндивидуальных особенностей, возможностей человека, его позитивного потенци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собенностей позиции человека, его отношения к саморазвитию, самосовершенствова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словий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пределение социально-педагогических возможностей среды жизнедеятельности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09880"/>
            <a:ext cx="82296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едметом которого выступ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правленность и интенсивность индивидуального разви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ррекция развития и воспитания человека,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я перевоспитания, исправления, педагогической реабилитации, адап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ости человека в целостном развитии либо по определённым направле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ая зона ближайшего развития, воспитания объекта в интересую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 обл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ости создания оптимальных условий, обеспечивающих реализацию возмож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оны ближайшего развития,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762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839080" y="10666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905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86800" y="4724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8600"/>
            <a:ext cx="51818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ВЫБОРУ ОПТИМ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752480"/>
            <a:ext cx="32004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нализ исходных материал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обходимых для выб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иболее оптимальной техн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ваиваются индивидуа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сти, возможности объек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мысливаются его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проблем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3429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ыводы по результатам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нформации и определение ц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которой следует стремить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работе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ом в данной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е модел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мпирическое создание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енаправленной социально-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отражающей определё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ую технолог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4648320"/>
            <a:ext cx="39621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ыбор социально-педагогической(целево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на основе предшествующ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или вновь выявленных и обоснов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тей достижения определенной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цели. Для каждой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проблемы может бы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колько технологий. Создание бан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й по различным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м проблем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09880"/>
            <a:ext cx="34290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нализ соответствия результ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оделирования и выбр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2666880"/>
            <a:ext cx="32004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нятие реш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одэтап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ющий на основе анали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вывод: соответ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ранная целевая техн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туации или не соответству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04960" y="137160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371600"/>
            <a:ext cx="106704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85840" y="1371600"/>
            <a:ext cx="76212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371600"/>
            <a:ext cx="38088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1371600"/>
            <a:ext cx="99036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3716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1447920"/>
            <a:ext cx="327672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бор оптимального вариан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способа)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агогической технологии – под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и к практ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137160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64796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НЕПОСРЕД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И ЦЕЛЕВ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267080"/>
            <a:ext cx="350532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ализ информаци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жа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ребности подготовки к практ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и технолог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одержание технолог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ки ее реализац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ностико-прогнос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;условия реал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ые возмо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го педагог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295280"/>
            <a:ext cx="358164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воды по 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ализа, объема и содерж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ически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819520"/>
            <a:ext cx="35816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решению выявл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, методически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1295280"/>
            <a:ext cx="33526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пробация социально-педагог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и или ее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5909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ование реализацио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разработка граф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целевой технологи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ремени, месту и видам зан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1911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тановка задач исполнител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организаци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10666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962520" y="51814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4197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62520" y="35812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895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62520" y="20574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5238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"/>
            <a:ext cx="44956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РЕАЛИЗАЦИИ ЦЕЛЕ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посредственная практическая деятельность по реализации целе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590920"/>
            <a:ext cx="31244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аптац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ьно - педагоги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и и субъек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объекта, нала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 субъектом и объек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4952880"/>
            <a:ext cx="480060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ключение объекта в процессы саморазвит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воспитания. Реализационная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сит индивидуализирован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2590920"/>
            <a:ext cx="320040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ценка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352680" y="1600200"/>
            <a:ext cx="1067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60020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1600200"/>
            <a:ext cx="11430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80880"/>
            <a:ext cx="5029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РУКТУРА ЭКСПЕРТНО-ОЦЕН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048120"/>
            <a:ext cx="350532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ЦЕНКА ЭТО КАЧЕСТВ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ЛИЧ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АРАКТЕРИ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ОГО-ЛИБ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3048120"/>
            <a:ext cx="335268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ЭКСПЕРТИЗА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 ОЦЕНКА 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ЭТА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ЭКПЕРТНОМУ ОБРАЗЦ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057400" y="1295280"/>
            <a:ext cx="266688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295280"/>
            <a:ext cx="236232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2096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ЫЙ ПЕДАГОГ В ОБРАЗОВАТЕЛЬНОМ УЧРЕ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228600"/>
            <a:ext cx="56386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СОЦИАЛЬНО-ПЕДАГ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условий для социального воспитания и развития детей в досугово-творческой деятельности по месту проживания сем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комфортной социально-образовательной среды в микросоциу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щь семье в индивидуальном развитии и становлении детской одар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рекционная работа с семьями группы риска, семьями с проблемны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едагогическая поддержка детей со специфическими нуждами (сирот, инвалидов, детей с ослабленным физическим или психическим здоровьем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8240" y="533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335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28600"/>
            <a:ext cx="71625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горитм деятельности начинающего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676520"/>
            <a:ext cx="251460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нормати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429000"/>
            <a:ext cx="2743200" cy="1447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посредств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организа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029200"/>
            <a:ext cx="266688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формами и мет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5105520"/>
            <a:ext cx="228600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накопл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мпирического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952880"/>
            <a:ext cx="34290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стие в провед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дивидуальной и группо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ы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ими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ями, учител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276720"/>
            <a:ext cx="281952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полож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1371600"/>
            <a:ext cx="27432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 с работ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угих специал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514240" y="838080"/>
            <a:ext cx="20574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43200" y="838080"/>
            <a:ext cx="1828800" cy="281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838080"/>
            <a:ext cx="1905120" cy="449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62160" y="838080"/>
            <a:ext cx="60948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838080"/>
            <a:ext cx="144792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838080"/>
            <a:ext cx="190512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838080"/>
            <a:ext cx="22096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049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28600"/>
            <a:ext cx="38862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окупность методов, необходимы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уществления процесса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838080"/>
            <a:ext cx="3886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чное описание способов произво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86200" y="45684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762120"/>
            <a:ext cx="10666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209680"/>
            <a:ext cx="46479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ЗНАКИ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28191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деление проце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заимосвязанные эта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733920"/>
            <a:ext cx="259092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ординированно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этапное вы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х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омого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266688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ключенны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хноло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дур и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23880" y="2666880"/>
            <a:ext cx="32004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666880"/>
            <a:ext cx="29718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304920"/>
            <a:ext cx="6172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АСПЕКТ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286000"/>
            <a:ext cx="30481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У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4038480"/>
            <a:ext cx="350532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295280"/>
            <a:ext cx="2743200" cy="1905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95120" y="914400"/>
            <a:ext cx="17528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914400"/>
            <a:ext cx="761760" cy="304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914400"/>
            <a:ext cx="1904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28600"/>
            <a:ext cx="55627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ОЦИАЛЬНОГО ПЕДАГО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У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362320"/>
            <a:ext cx="289548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социологически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следований в педагогичес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ском коллективах ср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зреш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фли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2362320"/>
            <a:ext cx="25146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с учител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нятий по обуч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ем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ометриче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троля за межличност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мосферой в класс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йствие эффектив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пределению ролей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лективе уча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бо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илиу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362320"/>
            <a:ext cx="25146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боте мес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ов власт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управления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м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я и ре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заимодействие с орга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правления и учрежд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я,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щиты, здравоохран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иссиями по дел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трудничество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ественными и друг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600200"/>
            <a:ext cx="28954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СУЛЬ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1600200"/>
            <a:ext cx="25146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1600200"/>
            <a:ext cx="25146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ЕШКО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1066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12952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228600"/>
            <a:ext cx="50292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ОЦИАЛЬНОГО ПЕДАГО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ОСПИТ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133720"/>
            <a:ext cx="32004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текущее наблюдение за об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туацией в школе, класс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лективах, группах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взаимоотношениями меж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ями, учащими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ями и т.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нализ и прогноз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кретных проблем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2133720"/>
            <a:ext cx="510552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оциально-педагогическая поддержка осуществляет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честве с органами местного самоуправ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ет извлекать несовершеннолетних из трудной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й ситуации, помещать в приют, передавать в друг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ю или интернат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оциальный контроль – позитивное влияние со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 на прилегающий к ней микрорай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действие субкультурам маргинальной ориен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едагогическая реабилитация -социальная поддерж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 учебно-воспитательного проце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сихопрофилактика направлена на выявление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ая дезадаптация, своевременно взять их п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, принять и утвердить план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о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600200"/>
            <a:ext cx="3200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УТРИШК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1600200"/>
            <a:ext cx="5105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ЬНО-ПЕДАГОГИЧЕСКАЯ РЕАБИЛИ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990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1219320"/>
            <a:ext cx="533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81080" y="228600"/>
            <a:ext cx="54864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.П.  В 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Ы ВОСПИТАН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1828800"/>
            <a:ext cx="259056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бёнка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4648320"/>
            <a:ext cx="3200400" cy="182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о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819520"/>
            <a:ext cx="3200400" cy="182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ского ко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42840" y="838080"/>
            <a:ext cx="19810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190760" y="838080"/>
            <a:ext cx="533160" cy="381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838080"/>
            <a:ext cx="25146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228600"/>
            <a:ext cx="6019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РЕТНЫЕ ВИДЫ УСЛУГ СОЦИ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А В 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143000"/>
            <a:ext cx="830592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могает в адаптации детей при поступлении в школу, переходе из начальной в среднюю и из средней школы во взрослую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дупреждает конфликты, которые по различным причинам могут возникнуть в детском коллективе, помогает разрешить конфликтную ситуацию на ранней стадии и предотвратить развитие более серьёзных проблем; помогает учащимся в формировании навыков решения проблем, управления стрессом; обучает их социальным навыкам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ыступает посредником между школой и семьёй: помогает родителям и учителям понять интересы и потребности детей в образовании и найти способы их удовлетворения в школе, определить индивидуальные образовательные программы для детей, которые в этом нуждаются (например, обучение детей в домашних условия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жит связующим звеном между родителями и школьным коллективом, побуждает родителей принимать участие в школьной жизни, ставит в известность администрацию и коллектив школы о пожеланиях семь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могает школьникам преодолеть преграды, мешающие им посещать школу и успевать на занят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дупреждает и снижает отрицательное влияние факторов риска на жизнь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295280"/>
            <a:ext cx="83059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вует в педсоветах, родительских собраниях и других совещаниях, посвященных школьной 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водит консультации с учителями и обслуживающим персоналом школы по различным социально-педагогическим проблемам в целях содействия улучшению условий жизни учеников в школе и ее окру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ганизует сотрудничество с учителями и другими специалистами (школьный психолог, дефектолог, врач и др.) при разработке индивидуальной стратегии и тактики помощи дезадаптированным де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зывает помощь в оценке и анализе дисциплинарных проступков ученико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годняшние школьники сталкиваются со многими проблемами, которые отрицательно влияют на процесс их социального и гражданского становления. Коллектив школы должен комплексно решать проблемы ученика, в чём немаловажная роль отводится социальному педаг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основных функций профессиональной деятельности социального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990720"/>
            <a:ext cx="853452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ческ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новка социально – педагогического диагноза, изучение социально-педагогического фона, выявление социально - педагогических процессов, эффекта социально – педагогической деятельности, социально – педагогическая паспортизация класса, школы и т.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рганизация социально – педагогической деятельности всех субъектов образовательных процессов в сферах воспитательной (исправительной, коррекционной) деятельности, профессиональной ориентации, трудоустройства и адаптации, досуга, деятельности подростковых и молодёжных объединений, подготовки к семейной жизни; осуществление взаимодействия медицинских, образовательных, культурных, спортивных, правовых учреждений, обществ и благотворительных организаций в социально-педагог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стико - проектировоч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стие в прогнозировании и проектировании социально-педагогических процессов классного коллектива, развития школы, конкретного микросоциума, отдельных личностей как объектов социально-педагог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ческ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стие в управлении социально – педагогическими процессами в классных коллективах, группах, школе в це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ординацион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рганизация взаимодействия специалистов и служб школы по поводу оптимизации социально – педагогического эффекта образования и воспитания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1337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О-ПЕДАГОГИЧЕСКАЯ РАБОТА С ДЕТЬМИ ГРУПП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04920"/>
            <a:ext cx="807696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КАТЕГОРИИ ДЕТЕЙ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5238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838080"/>
            <a:ext cx="8229600" cy="20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с проблемами в развитии, не имеющими резко выраженной клинико-патологической характерист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, оставшиеся без попечения родителей в силу разных не имеющих юридической силы обстоятель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из неблагополучных, асоциальных сем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из семей, нуждающихся в социально-экономической и социально-психологической помощи и поддерж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3504960"/>
            <a:ext cx="792468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ико-биологические (состояние здоровья, наследственные и врождённые свойства, нарушения в психическом и физическом развитии, травмы внутриутробного развития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экономические (материальные проблемы семьи, неблагоприятный психологический климат в семье, аморальный образ жизни родителей, неприспособленность к жизни в обществе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ологические (неприятие себя, невротические реакции, эмоциональная неустойчивость трудности общения, взаимодействия со сверстниками и взрослым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(несоответствие содержания программ образовательного учреждения и условий обучения детей их психофизиологическим особенностям, темпа психического развития и обучения детей; отсутствие интереса к учению, закрытость для положительного опыта, несоответствие образу школьника и т.д.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2971800"/>
            <a:ext cx="8153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Ы ВОЗНИКНОВЕНИЯ ДЕТЕЙ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914400"/>
            <a:ext cx="838224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АВЛЯЮЩИЕ СОЦИАЛЬНО-ПЕДАГОГ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ДЕТЬМИ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98108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явление детей этой категории в детской среде и организация работы с н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редственная индивидуальная или групповая работа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276720"/>
            <a:ext cx="83818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411480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ые социально-педагогически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индивидуа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28600"/>
            <a:ext cx="6095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219320"/>
            <a:ext cx="243828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ая техн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219320"/>
            <a:ext cx="2819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ая техн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90512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ный способ осущест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ческой деятельности (В.С.Дудченк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90512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ект определенной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ы, реализуем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актике (В.П.Беспалько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6688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циональное расчленение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оцесса) на процедуры,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266688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мма научно обоснованных приё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тельного воз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человека или груп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42900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ная программа для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решению социальной 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429000"/>
            <a:ext cx="403884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довательная взаимосвяза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а действий педагога, направленна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шение педагогически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191120"/>
            <a:ext cx="380988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пециально-подготовленная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следовательно-реализуем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ятельность по решению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403884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вокупность действий операций, процеду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нструментально обеспечива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лучение прогнозируемого результ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343400" y="83772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48640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ЕДАГОГИЧЕСКАЯ 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400800"/>
            <a:ext cx="73152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ка об искусстве достижения прогнозируемой социально-педагогической ц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791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3200" y="762120"/>
            <a:ext cx="1752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762120"/>
            <a:ext cx="1676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47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133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73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991720" y="1447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76276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762760" y="297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76276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76276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"/>
            <a:ext cx="70866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ОННЫЕ СОЦИАЛЬ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600200"/>
            <a:ext cx="32004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х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дростков группы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895480"/>
            <a:ext cx="3200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агностика проблем личност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развития дете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стков, попадающих в сфе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191120"/>
            <a:ext cx="32004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работка и утвер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деятельност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енком, группой, общ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1600200"/>
            <a:ext cx="34290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услов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2895480"/>
            <a:ext cx="3429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4191120"/>
            <a:ext cx="3429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жведомственн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9144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4572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38862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анк данных включ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ед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детях из семей социально-опас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ож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спризорных, безнадзор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занимающихся бродяжничество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прошайничеств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ржащихся в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билитационных центрах и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ю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потребляющих наркотические вещ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вершающих правонаруш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стоящих на учёте в комиссии по дел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свобождённых от уголов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ветственности в следствие а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 амнис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676520"/>
            <a:ext cx="44197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ый педаг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зучает индивидуальные особенности ребён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являет его интересы и потребности, трудност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ы, конфликтные ситуации, отклонени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дении, определяет их причины, отслежи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токи возникновения конфликтных ситу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сследует условия и особенности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кросреды жизнедеятельности ребё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762120"/>
            <a:ext cx="3886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ние банка данных дете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ростков группы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762120"/>
            <a:ext cx="4419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агностика проблем личност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развития детей и подрост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падающих в сферу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371600"/>
            <a:ext cx="396252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ые программы разрабатываются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я проблем определенной груп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остков выявленных в ходе диагнос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енные программы разрабатыва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шения проблем, присущих несколь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ам или части школьного коллекти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ключаются в общешкольную про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арактеристики програм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сть методов, форм и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ой деятель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лечения ведомств и служб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ируе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ряемости ожидаемых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609480"/>
            <a:ext cx="39625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аботка и утверждение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ребёнком, группой, общ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371600"/>
            <a:ext cx="4114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средничество между учащим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ом учреждении, семьёй, сред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алистами, ведомств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ыми орга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еализация и осуществление индивиду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х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ординация, контроль и собственное учас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ализации общественных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слеживание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формиру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иссию по делам несовершеннолетних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и индивидуальных програм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енных по заказу ко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тора школы о ходе выпол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агогический коллектив о результа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я внутришкольных структур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ению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ика управления образования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зультатах взаимодействия внутришко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 по выполнению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609480"/>
            <a:ext cx="41148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ение условий реализации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295280"/>
            <a:ext cx="4114800" cy="487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консультаций для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ей, учителей и других лиц при 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щ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1295280"/>
            <a:ext cx="4038840" cy="487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заимодейс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сихоло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омиссией по делам 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дминистративными организац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центрами социальной помощи семье и де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реждениями дополнительно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457200"/>
            <a:ext cx="41148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уль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57200"/>
            <a:ext cx="39625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жведомственн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28600"/>
            <a:ext cx="6705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ОЙ И ГРУПП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2514600"/>
            <a:ext cx="411480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АЯ 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О-ГРУПП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ИЛАКТИЧЕСКОЙ РАБО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514600"/>
            <a:ext cx="388620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АЗАНИЕ ИНДИВИДУ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ИДЕН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 И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209320" y="914400"/>
            <a:ext cx="266724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914400"/>
            <a:ext cx="23619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28600"/>
            <a:ext cx="77724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 ИНДИВИДУ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ОВОЙ ПРОФИЛАКТ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НА ПРИМЕРЕ ХИМИЧЕСКОЙ ЗАВИСИМ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371600"/>
            <a:ext cx="38102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Формирование и исследование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х детей, склонных к завис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2438280"/>
            <a:ext cx="38102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Разработка «портрета» зависим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 – конкрет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их тенденций развития зависимо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типов употребляемых веществ(алкого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котики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пыта употребления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сточников приобретения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ест распространения веще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4572000"/>
            <a:ext cx="38102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Исследование источников информации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, склонных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висимости: родители, учителя, класс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, одноклассники, и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1371600"/>
            <a:ext cx="388620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Разработка схем организации конта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детьми и родите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становление доверительно-уваж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на отношений с несовершеннолетни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х родител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декватное отношение к проблема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ым трудно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тивация позитивной возможности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реодолении зависи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тивация клиента на принятие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3809880"/>
            <a:ext cx="38862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Консуль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876920"/>
            <a:ext cx="388620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Разработка программ профилакт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ы( подробно см.дале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219320"/>
            <a:ext cx="0" cy="46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91120" y="586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410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1911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91120" y="2133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828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228600"/>
            <a:ext cx="7086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РАБОТКА ПРОГРАММ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1143000"/>
            <a:ext cx="4343400" cy="556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Ы ИНДИВИДУ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ФИЛАКТИЧЕСКОЙ РАБ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трате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заимодействия с клиент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тить внимание на позитивные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и ребёнка, учитывая которые, он начин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шение свои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омочь в осознании ответственности за выб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тегии по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йствовать в определении шагов по вых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проблемной ситу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пособствовать осознанию необхо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щения к специалистам, способным оказ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ственную помощь (наркологу, специалист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ов социальной, психологическ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ицинской помощ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1143000"/>
            <a:ext cx="4191120" cy="556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Ы ГРУПП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ФИЛАКТИЧЕСКОЙ РАБОТЫ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страте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заимодействия с клиент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рограммы должны быть направл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устойчивого положите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клиентов к возможност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ственного здоровья и негатив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к возможностям употреб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ществ, вызывающих зависим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формирование позитивных жизне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ановок, ценностей,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ежедневное педагогическое взаимодейст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инципы гуманной педагог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4800600"/>
            <a:ext cx="403884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оцени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нимай человека таки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ов он е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людай 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людай меру взаимного откров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клиентом, но сохраняй некотор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тан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09680" y="685800"/>
            <a:ext cx="24386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685800"/>
            <a:ext cx="2133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4572000"/>
            <a:ext cx="167652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иды програм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пагандист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е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уг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4572000"/>
            <a:ext cx="220968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нятие ребёнк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честве цели и це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ности педагогичес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кого проце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декватный учё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можностей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сихол.,физиол.,половых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175248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О-ПЕДАГОГИЧЕСКАЯ РАБОТА С СЕМЬ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228600"/>
            <a:ext cx="5486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Ь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1905120"/>
            <a:ext cx="2590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1905120"/>
            <a:ext cx="28195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1905120"/>
            <a:ext cx="25905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505320"/>
            <a:ext cx="1219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3505320"/>
            <a:ext cx="1219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85440" y="251460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2514600"/>
            <a:ext cx="6094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350532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350532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560" y="251460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25146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342900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3886200"/>
            <a:ext cx="15238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ордин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4572000"/>
            <a:ext cx="18288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934320" y="2514600"/>
            <a:ext cx="838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2514600"/>
            <a:ext cx="1522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2514600"/>
            <a:ext cx="762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295280" y="76212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7621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95680" y="76212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195560" cy="18237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010280" y="51055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182880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ТЕЛЬНЫЙ КОМПОНЕНТ СОЦИАЛЬНО-ПЕДАГОГИЧЕСКОЙ ПОМОЩИ СЕМ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28600"/>
            <a:ext cx="82296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СВЯЗЬ ТЕХНОЛОГИИ И МЕТ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ЧЕСКОЙ РАБОТЫ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048120"/>
            <a:ext cx="350496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-МЕТО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048120"/>
            <a:ext cx="350532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914400"/>
            <a:ext cx="289584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914400"/>
            <a:ext cx="22860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809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09880" y="4114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28600"/>
            <a:ext cx="75438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процесс формирования их педагог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7621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тика педагогического электория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143000"/>
            <a:ext cx="82296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ь семьи в развит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ребенка и обязанност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ный потенциал семьи и семейная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ейные роли и семейные 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я как источник психической трав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я с нарушенной структур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пружеские конфликты и эмоциональное состояние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ьский авторитет и личный пример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ликтная, аморальная и асоциальная сем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как безусловная ц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ощрения и наказания в семье. Семейная жесто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нарушений семейного воспитания и влияние их на характер ребё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ьская позиция и жизненные сценарии, созданные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детей в семье с учетом пола и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ность самовоспитания и его организации, роль семьи в руководстве процессом самовос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и воспитания детей с отклонениями в физическом и психическом развит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304920"/>
            <a:ext cx="3505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Ь В ВОСП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752480"/>
            <a:ext cx="49528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УЛЬТИРОВАНИЕ – как содействие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нутрисемейных отношений на основе из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заимодействия всех членов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1752480"/>
            <a:ext cx="36576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ИТЫВАЮЩИЕ СИТУАЦИ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ения воспитате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тенциала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1066680"/>
            <a:ext cx="48765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1066680"/>
            <a:ext cx="32767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2743200"/>
            <a:ext cx="495288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какими ожиданиями пришла семья на консульта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 чём актуальность семейной проблем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ребенок плохо учи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ова ситуация в семье в настоящее врем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 ранее в семье справлялись с трудностя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 осуществляется взаимодействие в семье в связ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никшей проблемой? (необходимо проясн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сходящее на уровне поведения, мыслей, чувст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жет ли ситуация ухудшится? Что может усугуб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ие положительные стороны имеет данная проблем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2743200"/>
            <a:ext cx="365760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понять своих родител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машние обяза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овь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ий семейный интерес и как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зд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режима труда, учёб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дыха и досуга детей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742840" y="685800"/>
            <a:ext cx="2133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685800"/>
            <a:ext cx="2286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1447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2590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1447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2590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19810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СИХОЛОГИЧЕСКИЙ КОМПОНЕНТ СОЦИАЛЬНО-ПЕДАГОГИЧЕСКОЙ ПОМОЩИ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228600"/>
            <a:ext cx="41148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ДЕРЖКА И 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523880"/>
            <a:ext cx="2514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1523880"/>
            <a:ext cx="2514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285640" y="838080"/>
            <a:ext cx="2514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838080"/>
            <a:ext cx="23623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2971800"/>
            <a:ext cx="434340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АЯ ДЕЯТЕЛЬНОСТЬ ОСУЩЕСТ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ОМПЛЕК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пределяет проблем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ализируя межличностные отношения семь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ожение ребенка в сем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семьи с обще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осредством психологических тес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угих методик выявляет те псих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я каждого члена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торые приводят к конфлик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сихиатр и психотерапе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водит ле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2971800"/>
            <a:ext cx="380988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ррекц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жличностных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сходит когда в семье суще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ическое насилие над ребен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водящая к нарушению его нер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ического и физического 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запугивание, оскорбление ребенка, наси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 ребенком, нарушение дов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омочь членам семьи узн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они взаимодействуют друг с друг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затем помочь узнать, как сделать э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действия более конструктив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676520" y="1752480"/>
            <a:ext cx="601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РЕДНИЧЕСКИЙ КОМПОНЕНТ СОЦИАЛЬНО-ПЕДАГОГИЧЕСКОЙ ПОМОЩИ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304920"/>
            <a:ext cx="41148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РЕДНИЧЕСКИ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1676520"/>
            <a:ext cx="28195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ого дос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творительных аукцио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убов по интерес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ых праздни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кур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сов по ведению домашн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зяй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клубов знакомств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тнего отды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1676520"/>
            <a:ext cx="27432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координ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авлена на активиз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личных ведомст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ужб по совмест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ешению пробл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мьи,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дача ребёнк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е в приёмную сем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ыновление ребё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ещение детей в прию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ещение ребенк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ституциональное по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детский дом, школа-интерна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лесная школа» и т.д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3600" y="1676520"/>
            <a:ext cx="29718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информиров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авлена на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мьи информацией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просам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щиты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ы мог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саться пробл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лищного, семейно-брачно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ового, гражданско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нсионного законода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 детей, женщин, инвал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исемейной организации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447920" y="685800"/>
            <a:ext cx="3200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8320" y="685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685800"/>
            <a:ext cx="2743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228600"/>
            <a:ext cx="55627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Ы 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447920"/>
            <a:ext cx="25146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ТКОСР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1447920"/>
            <a:ext cx="25146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ЛГОСР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590920"/>
            <a:ext cx="2514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ИЗИСИНТЕРВ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3505320"/>
            <a:ext cx="3353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БЛЕМНО-ОРИЕНТИР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447560" y="1981080"/>
            <a:ext cx="9903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38280" y="1981080"/>
            <a:ext cx="11430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590920"/>
            <a:ext cx="24382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СИХО-СОЦИ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934320" y="1981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437920" y="838080"/>
            <a:ext cx="20574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838080"/>
            <a:ext cx="24386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6-8 недель, около 12 конта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казание помощи в непосредственно кризисно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при рождении  ребенка с патологией помощь считается успешной ес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 понижена тревожность, психологический дискомф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формируется новое понимание проблемы и развиваются адап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БЛЕМНО-ОРИЕНТИРОВАННАЯ МОДЕЛЬ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авлена  на решение конкретных практических задач, заявленных клиен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Диагностика-концентрация внимания на сути проблемы, ситуации породившей пробл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Определяются препятствия для решения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Отбираются средства, способствующие преодоление препят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Ы И ФОРМЫ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контра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атронаж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онсульт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тренин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304920"/>
            <a:ext cx="51814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ЗИСИНТЕРВЕНТНАЯ МОДЕЛЬ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ТРАКТ КАК МЕТОД ПРОБЛЕМНО-ОРИЕНТИРОВАННОЙ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исание ключевой проблемы, которую обе стороны надеются разреш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ль и задачи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цедуры и методики, которые будут использов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ребования к клиенту и специалис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ые рамки совместной деятельности и действия в случае нарушения договор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ГЛАШЕНИЕ НОСИТ НЕ ПРАВОВЫЕ, А МОРАЛЬНЫЕ ОБЯЗАТЕЛЬСТВА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ИМУЩЕТВА КОНТРАКТ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буждает семью к актив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овлекает в процесс принятия ре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зволяет более глубоко осознать проблему и планировать дея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легчает подведение ит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Ы КОНТРАКТОВ: между социальным педагогом и семьей,соц. пед и  учрежд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АНИЧЕНИЯ КОН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индивидуальные осбенности клиентов:скрытность,замкнут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жатость сро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недостаточный профессиализм( например,не удается достичь понимания с семье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СИХОСОЦИАЛЬ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РАБОТЫ:  равновесие между внутренней психической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и межсистемными отнош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ГНОСТИКА:   -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настоящего и прош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поощрение к рассказу о чувствах, мыслях клиен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стремление к взаимопоним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РАБОТЫ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Изменять клиента, семейную систему,адаптируя ее к выполнению своей специф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и (реабилитация ребенка – инвал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зменять ситуацию-  другие системы, оказывающие влияние на сем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 Воздействовать и на то и на другое одновременно.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28600"/>
            <a:ext cx="4952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-МЕТО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90720"/>
            <a:ext cx="8534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– путь (способ) решения определенной проблемы человека,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ивный уровень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славливает субъектность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609480" cy="6094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514600"/>
            <a:ext cx="457200" cy="9144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114800" y="34290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4290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733920" y="243792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495680" y="24379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3886200"/>
            <a:ext cx="1526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88620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13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515600">
            <a:off x="4040640" y="1982520"/>
            <a:ext cx="45540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50" y="2706"/>
                </a:moveTo>
                <a:arcTo wR="10800" hR="10800" stAng="-7887266" swAng="5235543"/>
                <a:lnTo>
                  <a:pt x="10800" y="10800"/>
                </a:lnTo>
                <a:close/>
              </a:path>
              <a:path fill="none" w="21600" h="21600">
                <a:moveTo>
                  <a:pt x="3650" y="2706"/>
                </a:moveTo>
                <a:arcTo wR="10800" hR="10800" stAng="-7887266" swAng="523554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2000" y="2209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8195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0574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ешние методы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36232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енние методы          самостоятельная работа над со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2514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048120"/>
            <a:ext cx="1905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19360" y="3200400"/>
            <a:ext cx="1904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12408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действие специалиста и самого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038480"/>
            <a:ext cx="8305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ый урове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это методы которые включают объект клиента в определенные действия. Это методы воздействия на сознание, чувства человека; методы организации деятельности, методы стилизирования действий, методы само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802040"/>
            <a:ext cx="83822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ый уровен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способ реализации мето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действий (упражнение, тренировка, игра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воздействия – методы убеждения, информационные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организаци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стимулирования (сдерживания) – методы поощрения, методы принуждения, методы контро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ОНАЖ КАК ФОРМА РАБОТЫ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ТРОНАЖ (покровительство)-  подотчетная профессиональная деятельность, которая п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яет клиентам( индивидам,семьям )решать личные, индивидуальные, ситуа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УГИ ПАТРОНА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ские                                                    Образова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йственно-бытовые                                       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Ы:      -самоопределения клиен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обровольности принятия помощ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нфиденци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Диагностические- знакомство с условиями жизни, выявление факторов риска ,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онтрольные- оценка состояния семьи и ребенка; анализ хода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оприятий;выполнение рекоменд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Адаптационно- реабилитационные – оказание конкретной образовательной, психологической и др.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ое внимание следует уделять семье имеющей детей 7-8 лет; 14-15 лет;17-18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УЛЬТАЦИЯ В РАБОТЕ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АЦИЯ – форма взаимодействия между двумя или несколькими людь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де которого специальные знания консультанта используются для оказания помощи консультируемому в решении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ДАЧИ ( с помощью специально организованного процесса общения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Актуализировать внутренние ресурсы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Повысить  реабилитационную культуру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Способствовать коррекции внутрисемейных отно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ЦИПЫ ОБЩ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паритетные нач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открыт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ув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стремление понять собесед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эмоциональная поддержка собесед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СИХОЛОГИЧЕСКИЙ ТРЕНИНГ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ЕНИНГ—тренировка.           Сочетание приемов индивидуальной и групповой работы, способствующих формированию новых психологических ум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нинг может включать: упражнения,дискуссии, ролевая игра, приемы арт- терапии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евая игра,просмотр видео филь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владение психологическими зна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Формирование умений и навыков в сфере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оррекция, формирование и развитие установок необходимых для успешного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витие способности к адекватному и полному познанию себя и друг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Коррекция и развитие системы отношений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Ы:  активности участников, исследовательской позиции, объективации поведения, партнерского общения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:  тренинг перцеп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вид социально-  психологического тренинга направлен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развитие способности адекватного и полного познания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развитие способности понимания других люде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побуждение человека к переосмыслению сложившихся представлений о себе и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х люд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развитие стремления к совершенств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де занятия участники получают информац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 том, как они выглядят в глазах других лю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 том, как их действия и поступки воспринимаются другими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РАБОТЫ С СЕМЬЕЙ, ВОСПИТЫВАЮЩЕЙ РЕБЕНКА С ОГРАНИЧЕННЫМИ ВОЗМОЖ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ые  подходы в отношении людей с ограниченными возможностями связано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им явлением как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ГРАЦИЯ исключает социальную изолированность индивида и предполагает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ключенность во все виды и формы социальной жизни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создание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ов                                                               усилие медиков, психологов,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ников, социальных педаг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УЩЕЕ МЕСТО отводится СОЦИАЛЬНО-ПЕДАГОГ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омочь семье справиться с задачами воспитания, развития ребенка с ограничен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 возможностями,  способствовать оптимальному функционированию ,мобилизовать ресурсы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Й ПЕДАГОГ способствует повышению СОЦИАЛЬНО – РОЛ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ПТИРОВАННОСТИ СЕМЬИ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РОЛЕВАЯ АДАПТИРОВАННОСТЬ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Отношение к ребенку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е внутренние ресурсы в процессе реабилитации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конструктивное- поиск путей компенсации имеющихся нарушений,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ей ребенка, терпение и поддержка в любом начина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деструктивное- игнорирование патологии ребенка или акцентуация на 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структивное отношение к ребенку может выражаться в отрицательном к нему отнош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еабилитационная активность семьи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илие членов семьи направленное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иск источников медицинской помощ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активность педагогических усилий, направленная на поиск компенсато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стей ребенка (овладение развивающими и коррекционными методикам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обственно социальная активность семьи (поиск источников материально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ой поддерж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еабилитационная культура семьи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истема ценностей,знаний,навыков,помог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ть реабилитационны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 РЕАБИЛИТАЦИОННОЙ  КУЛЬТУР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762120"/>
            <a:ext cx="251460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СИОЛОГ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ценност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Философия независ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ивовес иждивен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ции)-независимая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ическая 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ринятие 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ебя (не отказываясь от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щи других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деи компенсаторного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тия Л.С.Выготского –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аживание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зей с жизнью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762120"/>
            <a:ext cx="266724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НИ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наниев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34120" y="762120"/>
            <a:ext cx="365760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304920"/>
            <a:ext cx="73152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ЕССИОНАЛЬНОЙ ОРИЕНТАЦИИ 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1447920"/>
            <a:ext cx="72392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ощь в профессиональном самоопределении старшеклассни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1828800"/>
            <a:ext cx="129564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905120"/>
            <a:ext cx="137160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514600" y="1828800"/>
            <a:ext cx="2362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76920" y="1828800"/>
            <a:ext cx="2133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276720"/>
            <a:ext cx="19810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ильного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3429000"/>
            <a:ext cx="12952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3276720"/>
            <a:ext cx="1600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352680"/>
            <a:ext cx="129528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3352680"/>
            <a:ext cx="12189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066680" y="2895480"/>
            <a:ext cx="1526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85640" y="2438280"/>
            <a:ext cx="47242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505320" y="2438280"/>
            <a:ext cx="35049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876920" y="2438280"/>
            <a:ext cx="2133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400440" y="2438280"/>
            <a:ext cx="6094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2514600"/>
            <a:ext cx="1526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4038480"/>
            <a:ext cx="12193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733920"/>
            <a:ext cx="1523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800600" y="3733920"/>
            <a:ext cx="1447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4800600"/>
            <a:ext cx="12952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ве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4876920"/>
            <a:ext cx="12193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гля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343400"/>
            <a:ext cx="2133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209680" y="4114800"/>
            <a:ext cx="19051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914400" y="4648320"/>
            <a:ext cx="91440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4343400"/>
            <a:ext cx="31240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114800"/>
            <a:ext cx="1752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5257800"/>
            <a:ext cx="441972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формирования сознания (беседа, лекция, приме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рганизации деятельности 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общественного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иучение упражн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тимулирования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оревнование, наказание, поощр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5257800"/>
            <a:ext cx="403848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циально-психологическая 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етоды воздействия( коррекции и терап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тивирования и управ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учени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труирования и творч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, ФУНКЦИИ И СРЕДСТВА ПРОФЕССИОНАЛЬН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деятельности С.П.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знаний, формирование специальных умений и навыков, ценностного отношения к избранной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деятельности социального педаго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ностическая, дидактическая,организационная, 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психоло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агностическая,прогностическая,посредн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я учител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дактическая,прогност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рганизационная,прогностиче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редства профессиональной ори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остранственно- временные рес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ограммно-методическое обеспе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ормативно-правовая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атериальн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СПД В ПРОФЕССИОНАЛЬНОМ САМООПРЕДЕ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1066680"/>
            <a:ext cx="289584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учение + воспитание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оциальные  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 професс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й среде,об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в ней, психол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ях профессион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Специальные умения (ком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ативные, организаторск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тические, прогно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Специальные  навыки (беск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ктного общения ,рефлек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анализ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Ценностное отношение к п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ссии,результатам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066680"/>
            <a:ext cx="312444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РЕДН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Организация совместной дея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ти учащихся, учителей, род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Координация усилий для ре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и профессиональной персп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Информирование учащихся и 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телей по вопросам выб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едагогические сов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нсилиу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одительские собр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1066680"/>
            <a:ext cx="274320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Психологическая 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ыявление индивиду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стей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Психолог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Психо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ир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ЗНАЧЕНИЕ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Развитие профессион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жных кач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Коррекция нежела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28600"/>
            <a:ext cx="41911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15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ная часть любой педагогической технологии -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звание технологии иногда определяется по ведущему методу (метод – игра – игровые технолог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х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перации,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505320"/>
            <a:ext cx="259092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хника педагогиче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скусство педагог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йствия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иёмы исполь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редств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едагогическом ак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505320"/>
            <a:ext cx="24382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хника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скусство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обучение, воспит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.е. деятельность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ализации определё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ехнологии, мет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505320"/>
            <a:ext cx="259092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дагогическая 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полн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это то, что присущ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нкретному специалис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лицетворяет его к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599840" y="243828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11430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38280"/>
            <a:ext cx="419076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ТИКАЛЬ СИСТЕМЫ ПРОФЕССИОНАЛЬНОЙ ОРИЕНТАЦИИ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БРАЗОВАТЕЛЬНОМ УЧРЕЖД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 ЭТАП -ПОДГОТОВИТЕЛЬНО-РАЗВИВАЮЩИЙ(4-8клас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 ЭТАП -ФОРМИРОВАНИЕ ПЕРВИЧНОЙ ГОТОВНОСТИ К ВЫБОРУ ПРОФЕССИИ(8-9клас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 ЭТАП -ФОРМИРОВАНИЕ ГОТОВНОСТИ ВЫБОРА БУДУЩЕЙ ПРОФЕССИИ И 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9-10клас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ТЕЛЬНО-РАЗВИВАЮЩИЙ ЭТАП (4-8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этапа:расширение кругозора школьников о мире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Проведение первичных диагностических исследований, направленных на  изучение познавательных и личностных особенностей школь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Формирование мотивации учеников к профессиональному выб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Ознакомление школьников с различными видами труда и професс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.Информиров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знакомление школьников с миром профессий при помощи различ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ных методов професси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.Диагностика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бя с использованием анкетирования, тестирования , за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ы  интересов и активные методы самоп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ЕРВИЧНОЙ ГОТОВНОСТИ К ВЫБОРУ ПРОФЕССИИ (8-9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этап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ование готовности учащихся к собственному выбору професс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пути с учетом склонностей, способностей, состояния здоровья и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а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едоставление старшекласникам углубленной информации о мире профессий,о сп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 на рынке труда и необходимом уровне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оведение диагностических исследований, касающихся склонностей, способностей,и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ов, профессиональной направленности и индивидуально-типологических особ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казание помощи при возникновении трудностей связанных с выбором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Информ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накомство с содержанием разных професс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целями,условиями,средствам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необходимых и препятствующих качествах для успеш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 выполнения различного рода работ(в т.ч.ограничения по состоянию здоровь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спросе на рынке труда,возможных местах трудоустройства в соответствии с социально-экономическими условиями района,гор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необходимом уровне образования,учебных заведениях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Диагностика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клонностей,способностей,интересов и профессиональрой напра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индивидуально-типологических особенностей учащихся с целью 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я  с той или иной професс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бытовое обследование в семье и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епени готовности к выбору проф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Консуль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рофессионального плана с учетом индивидуальных особенност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ов,способностей(работа с психологом-профконсультант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ГОТОВНОСТИ ВЫБОРА БУДУЩЕЙ ПРОФЕССИ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-11 Кла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эта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казание помощи в выборе будущей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Ознакомить учащихся с требованиями каждой профессии к личности профессио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Сформировать готовность к выбору профессии через развитие профессионально ва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.Информир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информации о рынк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 и проведение общеознакомительных экскурсий в вузы на предприя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ключение квалифицированных специалистов для получения информации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стях получения профе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организации выставок и форумов професс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информационно-поисковой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. Диагности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индивидуальных особенностей с целью определения соответствия той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й профессии(с учетом личностных качеств,темперам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ко-психолого-педагогическая эксперти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степени готовности к выбору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. Консультирование по вопрос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а профессии,учебного заведения,факульт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я личного профессионального пл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оиску работы и трудоустр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:СОДЕРЖАНИЕ ПОНЯТИЯ,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Я-совокупность операций, действий, средств применяемых в определ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довательности для достижения искомого результ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ОРИТМ ОБЩЕЙ 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ЭТАП -  диагностико-прогностический - определение социально-педагогической проблемы и построение прогноза вероятностного развития изме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ЭТАП – выбор или разработка оптимальной технологии с учетом индивидуа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,возможности специалиста и иных условий(пример:педагогическая коррекция,педагогическая реабилитация,индивидуальное развит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ЭТАП – непосредственная подготовка к реализации выбранной технологии(под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онных,технических,методических и д.р.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ЭТАП – реализационный –основной(коррекция, реабилитация,воспитани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ЭТАП – экспертно-оценочный –анализ совершаемой деятельности и результатив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28600"/>
            <a:ext cx="4114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И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971800"/>
            <a:ext cx="373392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ДАГ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Е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971800"/>
            <a:ext cx="365760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Т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133360" y="914400"/>
            <a:ext cx="243828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914400"/>
            <a:ext cx="2133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28600"/>
            <a:ext cx="49532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 ОБЩЕ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0666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хнологии включающие полный цикл социально-педагогической работы с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субъектному применен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риентируется на специально подготовленного специал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объекту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ориентирова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редназначены для социально-педагогической работы с различными социальными группами: школьники, студенты, военнослужащие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зрастны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о-педагогическая работа с людьми определенн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технологии для использования в групп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дивидуаль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ориентированные – технологии индивидуального развития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месту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пользуются определённые условия (центры, аудитории, лаборатории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способу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 которые определяют основное своеобразие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условленные ведущим методом практической деятельности: игры, театрализованная деятельность, тренинги туристические походы и др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остроенные на определенной последовательности, взаимосвязи группы мет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ские метод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пециальные методики, разработанные конкретным специалистом и положительно зарекомендовавшие себя на практике (М.Монтессор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0492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 ЧАСТ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066680"/>
            <a:ext cx="830592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ностические социально-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хнологии подразделяются в зависимости от задач диагностики (на что она ориентирова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н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пециальная подготовка специа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н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методика диагностики обычно ориентирована на определенную область практического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диагностические технологии используются, как правило, в специальных центрах, консультационных пунк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пособы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оциологические или психологические методики с использованием специальных бланков, аппаратуры, методов наблюдения, включения в определенные виды деятельности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ностико – прогностические социально-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и диагностирование индивидуальных особенностей клиента, прогнозирование перспектив его индивидуального, индивидуально-коррекционного, коррекционно – компенсаторного развития, воспитания. Выявление индивидуальных возможностей клиента в саморазвитии, потенциала эт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социального педагога школы интересуют, в чем причины затруднений ученика в обучении и каковы возможности их преодо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ИПКРО</cp:lastModifiedBy>
  <dcterms:modified xsi:type="dcterms:W3CDTF">2010-08-24T11:57:00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